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%5C&#20010;&#20154;&#25945;&#30740;&#24037;&#20316;%5C&#25945;&#26448;&#20171;&#32461;%5C&#31532;&#20843;&#20876;%5C2009&#24180;&#20154;&#25945;&#29256;%5C&#25945;&#26448;&#22270;%5C1.&#23567;&#25968;&#20056;&#27861;.ppt" TargetMode="External"/><Relationship Id="rId3" Type="http://schemas.openxmlformats.org/officeDocument/2006/relationships/image" Target="../media/image3.png"/><Relationship Id="rId4" Type="http://schemas.openxmlformats.org/officeDocument/2006/relationships/hyperlink" Target="D:%5C&#20010;&#20154;&#25945;&#30740;&#24037;&#20316;%5C&#25945;&#26448;&#20171;&#32461;%5C&#31532;&#20843;&#20876;%5C2009&#24180;&#20154;&#25945;&#29256;%5C&#25945;&#26448;&#22270;%5C1.&#23567;&#25968;&#20056;&#27861;.ppt" TargetMode="External"/><Relationship Id="rId5" Type="http://schemas.openxmlformats.org/officeDocument/2006/relationships/image" Target="../media/image4.png"/><Relationship Id="rId6" Type="http://schemas.openxmlformats.org/officeDocument/2006/relationships/hyperlink" Target="D:%5C&#20010;&#20154;&#25945;&#30740;&#24037;&#20316;%5C&#25945;&#26448;&#20171;&#32461;%5C&#31532;&#20843;&#20876;%5C2009&#24180;&#20154;&#25945;&#29256;%5C&#25945;&#26448;&#22270;%5C1.&#23567;&#25968;&#20056;&#27861;.ppt" TargetMode="External"/><Relationship Id="rId7" Type="http://schemas.openxmlformats.org/officeDocument/2006/relationships/image" Target="../media/image5.png"/><Relationship Id="rId8" Type="http://schemas.openxmlformats.org/officeDocument/2006/relationships/hyperlink" Target="D:%5C&#20010;&#20154;&#25945;&#30740;&#24037;&#20316;%5C&#25945;&#26448;&#20171;&#32461;%5C&#31532;&#20843;&#20876;%5C2009&#24180;&#20154;&#25945;&#29256;%5C&#25945;&#26448;&#22270;%5C1.&#23567;&#25968;&#20056;&#27861;.ppt" TargetMode="External"/><Relationship Id="rId9" Type="http://schemas.openxmlformats.org/officeDocument/2006/relationships/image" Target="../media/image6.png"/><Relationship Id="rId10" Type="http://schemas.openxmlformats.org/officeDocument/2006/relationships/hyperlink" Target="E:%5Ce%5C&#26417;&#27665;&#25945;&#23398;%5C&#21517;&#24072;&#24037;&#20316;&#24066;&#19978;&#20256;&#26448;&#26009;xin%5C&#20154;&#25945;9&#20876;&#25945;&#26448;&#20998;&#26512;&#65288;&#39640;&#33805;&#65289;%5C&#25945;&#26448;&#22270;%5C2.&#23567;&#25968;&#38500;&#27861;.ppt" TargetMode="External"/><Relationship Id="rId11" Type="http://schemas.openxmlformats.org/officeDocument/2006/relationships/image" Target="../media/image7.png"/><Relationship Id="rId12" Type="http://schemas.openxmlformats.org/officeDocument/2006/relationships/hyperlink" Target="E:%5Ce%5C&#26417;&#27665;&#25945;&#23398;%5C&#21517;&#24072;&#24037;&#20316;&#24066;&#19978;&#20256;&#26448;&#26009;xin%5C&#20154;&#25945;9&#20876;&#25945;&#26448;&#20998;&#26512;&#65288;&#39640;&#33805;&#65289;%5C&#25945;&#26448;&#22270;%5C2.&#23567;&#25968;&#38500;&#27861;.ppt" TargetMode="External"/><Relationship Id="rId13" Type="http://schemas.openxmlformats.org/officeDocument/2006/relationships/image" Target="../media/image8.png"/><Relationship Id="rId14" Type="http://schemas.openxmlformats.org/officeDocument/2006/relationships/hyperlink" Target="E:%5Ce%5C&#26417;&#27665;&#25945;&#23398;%5C&#21517;&#24072;&#24037;&#20316;&#24066;&#19978;&#20256;&#26448;&#26009;xin%5C&#20154;&#25945;9&#20876;&#25945;&#26448;&#20998;&#26512;&#65288;&#39640;&#33805;&#65289;%5C&#25945;&#26448;&#22270;%5C2.&#23567;&#25968;&#38500;&#27861;.ppt" TargetMode="External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整理与复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587780"/>
          <p:cNvSpPr/>
          <p:nvPr/>
        </p:nvSpPr>
        <p:spPr>
          <a:xfrm>
            <a:off x="1095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87781"/>
          <p:cNvSpPr/>
          <p:nvPr/>
        </p:nvSpPr>
        <p:spPr>
          <a:xfrm>
            <a:off x="361656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用字母表示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4360" y="237060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集体交流：指名口答，课件出示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811080" y="2938320"/>
            <a:ext cx="76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教师关注有困难的学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98022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简易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00000" y="213372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示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3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(    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8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　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(     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　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(     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(      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　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125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(     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116000" y="4522680"/>
            <a:ext cx="74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面哪些是方程？你是怎样判断的？用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表示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096920" y="4956120"/>
            <a:ext cx="74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会解这些方程吗？选择一个解一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732120" y="2722320"/>
            <a:ext cx="4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926480" y="275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681360" y="33710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7926480" y="3371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7926480" y="365904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873080" y="5326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反馈，指名讲解解方程的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谁解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为什么没人选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能不能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列方程解决实际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26510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厘米长的铁丝围成一个最大的正方形，正方形的边长是多少厘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30200" y="3823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妈妈到水果店买水果，买香蕉用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.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苹果多花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每千克苹果多少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1280" y="200988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出要求：用方程解决下面的问题，看谁完成的又对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学生独立完成，教师行间巡视，集体交流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39560" y="5303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仓库里有一批货物，一辆卡车每次运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吨，运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后还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4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批货物一共有多少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60360" y="3040200"/>
            <a:ext cx="5975280" cy="720720"/>
            <a:chOff x="1260360" y="3040200"/>
            <a:chExt cx="5975280" cy="720720"/>
          </a:xfrm>
        </p:grpSpPr>
        <p:sp>
          <p:nvSpPr>
            <p:cNvPr id="251" name="Text Box 10"/>
            <p:cNvSpPr/>
            <p:nvPr/>
          </p:nvSpPr>
          <p:spPr>
            <a:xfrm>
              <a:off x="1340640" y="3088800"/>
              <a:ext cx="589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正方形的边长是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1260360" y="3040200"/>
              <a:ext cx="4967640" cy="720720"/>
            </a:xfrm>
            <a:prstGeom prst="rect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2"/>
          <p:cNvSpPr/>
          <p:nvPr/>
        </p:nvSpPr>
        <p:spPr>
          <a:xfrm>
            <a:off x="1258920" y="4543560"/>
            <a:ext cx="4968720" cy="7189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330200" y="457200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每千克苹果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1332000" y="607068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这批货物一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260360" y="6059520"/>
            <a:ext cx="4967280" cy="6476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列方程解决实际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1280" y="196236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出要求：任选一题，用方程解决，看谁完成的又对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学生独立完成，教师行间巡视，集体交流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50920" y="2637000"/>
            <a:ext cx="4105080" cy="2450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4643280" y="2637000"/>
            <a:ext cx="4321440" cy="2449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95280" y="5661000"/>
            <a:ext cx="7435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50920" y="5471640"/>
            <a:ext cx="9074160" cy="847080"/>
            <a:chOff x="250920" y="5471640"/>
            <a:chExt cx="9074160" cy="847080"/>
          </a:xfrm>
        </p:grpSpPr>
        <p:sp>
          <p:nvSpPr>
            <p:cNvPr id="265" name="Text Box 12"/>
            <p:cNvSpPr/>
            <p:nvPr/>
          </p:nvSpPr>
          <p:spPr>
            <a:xfrm>
              <a:off x="329400" y="5539680"/>
              <a:ext cx="462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梅花鹿的高度是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5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50920" y="5471640"/>
              <a:ext cx="4181760" cy="847080"/>
            </a:xfrm>
            <a:prstGeom prst="rect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4748400" y="5471640"/>
              <a:ext cx="4181760" cy="847080"/>
            </a:xfrm>
            <a:prstGeom prst="rect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4702680" y="5607720"/>
              <a:ext cx="462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小红平均每分钟走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图片 601101" descr="28"/>
          <p:cNvPicPr/>
          <p:nvPr/>
        </p:nvPicPr>
        <p:blipFill>
          <a:blip r:embed="rId2"/>
          <a:stretch/>
        </p:blipFill>
        <p:spPr>
          <a:xfrm>
            <a:off x="250920" y="3213000"/>
            <a:ext cx="4217760" cy="15112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601102" descr="29"/>
          <p:cNvPicPr/>
          <p:nvPr/>
        </p:nvPicPr>
        <p:blipFill>
          <a:blip r:embed="rId3"/>
          <a:stretch/>
        </p:blipFill>
        <p:spPr>
          <a:xfrm>
            <a:off x="4643280" y="2637000"/>
            <a:ext cx="4246560" cy="1798560"/>
          </a:xfrm>
          <a:prstGeom prst="rect">
            <a:avLst/>
          </a:prstGeom>
          <a:ln w="0">
            <a:noFill/>
          </a:ln>
        </p:spPr>
      </p:pic>
      <p:sp>
        <p:nvSpPr>
          <p:cNvPr id="271" name="矩形 601103"/>
          <p:cNvSpPr/>
          <p:nvPr/>
        </p:nvSpPr>
        <p:spPr>
          <a:xfrm>
            <a:off x="4572000" y="4508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小明和小红在校门口分手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分钟后他们同时到家。小明平均每分钟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，小红平均每分钟走多少米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列方程解决实际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26920" y="2362680"/>
            <a:ext cx="74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回顾一下，列方程解决实际问题一般分为哪几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728720" y="2924280"/>
            <a:ext cx="745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寻找等量关系。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设出未知数为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列出方程。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解方程。</a:t>
            </a:r>
            <a:br>
              <a:rPr sz="1800"/>
            </a:b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验算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049400" y="5004000"/>
            <a:ext cx="74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想提醒大家要注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质疑 反思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655560" y="21859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一单元结束了，你还有什么疑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468360" y="1701720"/>
            <a:ext cx="7524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今天这节课你有哪些收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471600" y="3298680"/>
            <a:ext cx="8280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老师建议大家建立一个“个人成长档案”，记录下自己在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过程中的困惑和平日的错题，这样就可以使今后的总复习更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针对性，而且省时高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24000" y="2362320"/>
            <a:ext cx="8038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4080" y="3645000"/>
            <a:ext cx="72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近一段我们一起研究了有关方程的知识， 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今天这节课我们一起对本单元的知识进行整理与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谈话引入 揭示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413080" y="437904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板书课题：整理与复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39640" y="1773360"/>
            <a:ext cx="90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谈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同学们，俄国教育家乌申斯基说过这样一句话：“装着一些片段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联系的知识的头脑，就像一个乱七八糟的仓库，主人从那里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什么也找不出来的。”从这句话中你得到了哪些启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55640" y="2852640"/>
            <a:ext cx="806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感受知识整理的重要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96800" y="51310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一单元的知识是不是都掌握了呢？咱们进行一次“学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比拼”来检测一下。以组为单位比一比，看哪个组这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单元的知识掌握的最好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89831"/>
          <p:cNvSpPr/>
          <p:nvPr/>
        </p:nvSpPr>
        <p:spPr>
          <a:xfrm>
            <a:off x="1095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50920" y="1557360"/>
            <a:ext cx="53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组内回顾 唤醒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回顾梳理 构建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826920" y="328464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80920" y="4830840"/>
            <a:ext cx="7364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828720" y="264708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出要求：在“学力大比拼”之前，老师给每个组一个交流的机会，把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自己梳理的本单元内容在小组内交流。交流的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清楚地说给大家听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认真倾听，适当补充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人人都要发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84360" y="4438800"/>
            <a:ext cx="7921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教师行间巡视，适时指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90855"/>
          <p:cNvSpPr/>
          <p:nvPr/>
        </p:nvSpPr>
        <p:spPr>
          <a:xfrm>
            <a:off x="1095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90856"/>
          <p:cNvSpPr/>
          <p:nvPr/>
        </p:nvSpPr>
        <p:spPr>
          <a:xfrm>
            <a:off x="131148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90857"/>
          <p:cNvSpPr/>
          <p:nvPr/>
        </p:nvSpPr>
        <p:spPr>
          <a:xfrm>
            <a:off x="1527480" y="530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90858"/>
          <p:cNvSpPr/>
          <p:nvPr/>
        </p:nvSpPr>
        <p:spPr>
          <a:xfrm>
            <a:off x="174312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回顾梳理 构建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1640" y="2205000"/>
            <a:ext cx="7921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刚才我们以组为单位对本单元知识进行了复习，这个单元到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底有哪些知识点呢？哪个小组愿意汇报一下交流的结果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暴露思维 组织研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91877"/>
          <p:cNvSpPr/>
          <p:nvPr/>
        </p:nvSpPr>
        <p:spPr>
          <a:xfrm>
            <a:off x="1095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91878"/>
          <p:cNvSpPr/>
          <p:nvPr/>
        </p:nvSpPr>
        <p:spPr>
          <a:xfrm>
            <a:off x="131148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91879"/>
          <p:cNvSpPr/>
          <p:nvPr/>
        </p:nvSpPr>
        <p:spPr>
          <a:xfrm>
            <a:off x="1527480" y="530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91880"/>
          <p:cNvSpPr/>
          <p:nvPr/>
        </p:nvSpPr>
        <p:spPr>
          <a:xfrm>
            <a:off x="174312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回顾梳理 构建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暴露思维 组织研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348000" y="5734080"/>
            <a:ext cx="2879640" cy="503280"/>
            <a:chOff x="3348000" y="5734080"/>
            <a:chExt cx="2879640" cy="503280"/>
          </a:xfrm>
        </p:grpSpPr>
        <p:pic>
          <p:nvPicPr>
            <p:cNvPr id="72" name="Text Box 22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348000" y="5734080"/>
              <a:ext cx="2879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395160" y="5810760"/>
              <a:ext cx="27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用方程解决实际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左大括号 13"/>
          <p:cNvSpPr/>
          <p:nvPr/>
        </p:nvSpPr>
        <p:spPr>
          <a:xfrm>
            <a:off x="3492360" y="2060640"/>
            <a:ext cx="214560" cy="221436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2214360"/>
              <a:gd name="textAreaBottom" fmla="*/ 220896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70"/>
                </a:cubicBezTo>
                <a:lnTo>
                  <a:pt x="10800" y="10630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70"/>
                </a:cubicBezTo>
                <a:lnTo>
                  <a:pt x="10800" y="21430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大括号 14"/>
          <p:cNvSpPr/>
          <p:nvPr/>
        </p:nvSpPr>
        <p:spPr>
          <a:xfrm>
            <a:off x="3086280" y="4654440"/>
            <a:ext cx="260280" cy="1643040"/>
          </a:xfrm>
          <a:custGeom>
            <a:avLst/>
            <a:gdLst>
              <a:gd name="textAreaLeft" fmla="*/ 166320 w 260280"/>
              <a:gd name="textAreaRight" fmla="*/ 260640 w 260280"/>
              <a:gd name="textAreaTop" fmla="*/ 6480 h 1643040"/>
              <a:gd name="textAreaBottom" fmla="*/ 163656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5280" y="1989000"/>
            <a:ext cx="8063640" cy="3713400"/>
            <a:chOff x="395280" y="1989000"/>
            <a:chExt cx="8063640" cy="3713400"/>
          </a:xfrm>
        </p:grpSpPr>
        <p:grpSp>
          <p:nvGrpSpPr>
            <p:cNvPr id="77" name=""/>
            <p:cNvGrpSpPr/>
            <p:nvPr/>
          </p:nvGrpSpPr>
          <p:grpSpPr>
            <a:xfrm>
              <a:off x="1139400" y="3036600"/>
              <a:ext cx="2376360" cy="572400"/>
              <a:chOff x="1139400" y="3036600"/>
              <a:chExt cx="2376360" cy="572400"/>
            </a:xfrm>
          </p:grpSpPr>
          <p:pic>
            <p:nvPicPr>
              <p:cNvPr id="78" name="Text Box 19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1139400" y="3036600"/>
                <a:ext cx="2376360" cy="57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13"/>
              <p:cNvSpPr/>
              <p:nvPr/>
            </p:nvSpPr>
            <p:spPr>
              <a:xfrm>
                <a:off x="1276560" y="3123720"/>
                <a:ext cx="210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6600"/>
                    </a:solidFill>
                    <a:latin typeface="Arial"/>
                    <a:ea typeface="宋体"/>
                  </a:rPr>
                  <a:t>用字母表示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152360" y="5130000"/>
              <a:ext cx="2059560" cy="572400"/>
              <a:chOff x="1152360" y="5130000"/>
              <a:chExt cx="2059560" cy="572400"/>
            </a:xfrm>
          </p:grpSpPr>
          <p:pic>
            <p:nvPicPr>
              <p:cNvPr id="81" name="Text Box 21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1152360" y="5130000"/>
                <a:ext cx="2059560" cy="57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16"/>
              <p:cNvSpPr/>
              <p:nvPr/>
            </p:nvSpPr>
            <p:spPr>
              <a:xfrm>
                <a:off x="1276920" y="52185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6600"/>
                    </a:solidFill>
                    <a:latin typeface="Arial"/>
                    <a:ea typeface="宋体"/>
                  </a:rPr>
                  <a:t>解简易方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848920" y="4448880"/>
              <a:ext cx="2610000" cy="572040"/>
              <a:chOff x="5848920" y="4448880"/>
              <a:chExt cx="2610000" cy="572040"/>
            </a:xfrm>
          </p:grpSpPr>
          <p:pic>
            <p:nvPicPr>
              <p:cNvPr id="84" name="Text Box 23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5848920" y="4448880"/>
                <a:ext cx="261000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19"/>
              <p:cNvSpPr/>
              <p:nvPr/>
            </p:nvSpPr>
            <p:spPr>
              <a:xfrm>
                <a:off x="6002280" y="4540320"/>
                <a:ext cx="2398320" cy="3682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等式基本性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 Box 30"/>
            <p:cNvSpPr/>
            <p:nvPr/>
          </p:nvSpPr>
          <p:spPr>
            <a:xfrm>
              <a:off x="3749400" y="2896920"/>
              <a:ext cx="4121280" cy="36828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用字母表示运算定律及计算公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3749400" y="3741840"/>
              <a:ext cx="4121280" cy="36828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借助字母解决实际问题并代入求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323880" y="4448880"/>
              <a:ext cx="2387160" cy="572040"/>
              <a:chOff x="3323880" y="4448880"/>
              <a:chExt cx="2387160" cy="572040"/>
            </a:xfrm>
          </p:grpSpPr>
          <p:pic>
            <p:nvPicPr>
              <p:cNvPr id="89" name="Text Box 13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3323880" y="4448880"/>
                <a:ext cx="238716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3385080" y="4540320"/>
                <a:ext cx="226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程的意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323880" y="5097240"/>
              <a:ext cx="1718280" cy="572400"/>
              <a:chOff x="3323880" y="5097240"/>
              <a:chExt cx="1718280" cy="572400"/>
            </a:xfrm>
          </p:grpSpPr>
          <p:pic>
            <p:nvPicPr>
              <p:cNvPr id="92" name="Text Box 14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3323880" y="5097240"/>
                <a:ext cx="1718280" cy="57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27"/>
              <p:cNvSpPr/>
              <p:nvPr/>
            </p:nvSpPr>
            <p:spPr>
              <a:xfrm>
                <a:off x="3385080" y="5184360"/>
                <a:ext cx="159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解方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22"/>
            <p:cNvSpPr/>
            <p:nvPr/>
          </p:nvSpPr>
          <p:spPr>
            <a:xfrm>
              <a:off x="3765600" y="1989000"/>
              <a:ext cx="3561840" cy="36828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用字母表示数量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5"/>
            <p:cNvSpPr/>
            <p:nvPr/>
          </p:nvSpPr>
          <p:spPr>
            <a:xfrm flipV="1">
              <a:off x="5639040" y="4733640"/>
              <a:ext cx="346680" cy="5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左大括号 16"/>
            <p:cNvSpPr/>
            <p:nvPr/>
          </p:nvSpPr>
          <p:spPr>
            <a:xfrm>
              <a:off x="1058760" y="3381120"/>
              <a:ext cx="218160" cy="2060640"/>
            </a:xfrm>
            <a:custGeom>
              <a:avLst/>
              <a:gdLst>
                <a:gd name="textAreaLeft" fmla="*/ 139320 w 218160"/>
                <a:gd name="textAreaRight" fmla="*/ 218520 w 218160"/>
                <a:gd name="textAreaTop" fmla="*/ 4680 h 2060640"/>
                <a:gd name="textAreaBottom" fmla="*/ 205596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"/>
                    <a:pt x="10800" y="165"/>
                  </a:cubicBezTo>
                  <a:lnTo>
                    <a:pt x="10800" y="10635"/>
                  </a:lnTo>
                  <a:cubicBezTo>
                    <a:pt x="10800" y="10718"/>
                    <a:pt x="5400" y="10800"/>
                    <a:pt x="0" y="10800"/>
                  </a:cubicBezTo>
                  <a:cubicBezTo>
                    <a:pt x="5400" y="10800"/>
                    <a:pt x="10800" y="10883"/>
                    <a:pt x="10800" y="10965"/>
                  </a:cubicBezTo>
                  <a:lnTo>
                    <a:pt x="10800" y="21435"/>
                  </a:lnTo>
                  <a:cubicBezTo>
                    <a:pt x="10800" y="21518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5280" y="3976560"/>
              <a:ext cx="807120" cy="889920"/>
              <a:chOff x="395280" y="3976560"/>
              <a:chExt cx="807120" cy="889920"/>
            </a:xfrm>
          </p:grpSpPr>
          <p:pic>
            <p:nvPicPr>
              <p:cNvPr id="98" name="Text Box 14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395280" y="3976560"/>
                <a:ext cx="807120" cy="88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 Box 33"/>
              <p:cNvSpPr/>
              <p:nvPr/>
            </p:nvSpPr>
            <p:spPr>
              <a:xfrm>
                <a:off x="550080" y="4049280"/>
                <a:ext cx="50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方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52360" y="62870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谁愿意来评价一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780000" y="1917720"/>
            <a:ext cx="1223640" cy="431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869080" y="2492280"/>
            <a:ext cx="1944720" cy="43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48000" y="2492280"/>
            <a:ext cx="1871640" cy="43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55640" y="2492280"/>
            <a:ext cx="1871640" cy="43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回顾梳理 构建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暴露思维 组织研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794040" y="1929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55640" y="24685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21080" y="2506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简易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867280" y="25984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际问题与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820800" y="5315400"/>
            <a:ext cx="72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谁愿意来评价一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39920" y="59007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学习的内容非常清晰，更具体了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 rot="5400000">
            <a:off x="4528800" y="35845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70080" y="3205080"/>
            <a:ext cx="574920" cy="1727280"/>
            <a:chOff x="3070080" y="3205080"/>
            <a:chExt cx="574920" cy="1727280"/>
          </a:xfrm>
        </p:grpSpPr>
        <p:sp>
          <p:nvSpPr>
            <p:cNvPr id="118" name="Rectangle 18"/>
            <p:cNvSpPr/>
            <p:nvPr/>
          </p:nvSpPr>
          <p:spPr>
            <a:xfrm>
              <a:off x="3070080" y="3205080"/>
              <a:ext cx="574920" cy="172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3165840" y="3275280"/>
              <a:ext cx="4546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的意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076640" y="3205080"/>
            <a:ext cx="576360" cy="1727280"/>
            <a:chOff x="4076640" y="3205080"/>
            <a:chExt cx="576360" cy="1727280"/>
          </a:xfrm>
        </p:grpSpPr>
        <p:sp>
          <p:nvSpPr>
            <p:cNvPr id="121" name="Rectangle 21"/>
            <p:cNvSpPr/>
            <p:nvPr/>
          </p:nvSpPr>
          <p:spPr>
            <a:xfrm>
              <a:off x="4076640" y="3205080"/>
              <a:ext cx="576360" cy="172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4173480" y="3275280"/>
              <a:ext cx="4546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式的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013360" y="3203640"/>
            <a:ext cx="576360" cy="1728720"/>
            <a:chOff x="5013360" y="3203640"/>
            <a:chExt cx="576360" cy="1728720"/>
          </a:xfrm>
        </p:grpSpPr>
        <p:sp>
          <p:nvSpPr>
            <p:cNvPr id="124" name="Rectangle 24"/>
            <p:cNvSpPr/>
            <p:nvPr/>
          </p:nvSpPr>
          <p:spPr>
            <a:xfrm>
              <a:off x="5013360" y="3203640"/>
              <a:ext cx="57636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5110200" y="3273840"/>
              <a:ext cx="454680" cy="16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方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26"/>
          <p:cNvSpPr/>
          <p:nvPr/>
        </p:nvSpPr>
        <p:spPr>
          <a:xfrm flipV="1">
            <a:off x="2556000" y="2276640"/>
            <a:ext cx="122400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5003640" y="2276640"/>
            <a:ext cx="1152720" cy="20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9"/>
          <p:cNvSpPr/>
          <p:nvPr/>
        </p:nvSpPr>
        <p:spPr>
          <a:xfrm rot="16200000">
            <a:off x="4248000" y="195408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58840" y="3203640"/>
            <a:ext cx="1003320" cy="1727280"/>
            <a:chOff x="2058840" y="3203640"/>
            <a:chExt cx="1003320" cy="1727280"/>
          </a:xfrm>
        </p:grpSpPr>
        <p:sp>
          <p:nvSpPr>
            <p:cNvPr id="131" name="Rectangle 31"/>
            <p:cNvSpPr/>
            <p:nvPr/>
          </p:nvSpPr>
          <p:spPr>
            <a:xfrm>
              <a:off x="2194920" y="3203640"/>
              <a:ext cx="648720" cy="172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2"/>
            <p:cNvSpPr/>
            <p:nvPr/>
          </p:nvSpPr>
          <p:spPr>
            <a:xfrm>
              <a:off x="2058840" y="3273120"/>
              <a:ext cx="100332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借助字母解决问题并求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82520" y="3218040"/>
            <a:ext cx="1003320" cy="1728720"/>
            <a:chOff x="1082520" y="3218040"/>
            <a:chExt cx="1003320" cy="1728720"/>
          </a:xfrm>
        </p:grpSpPr>
        <p:sp>
          <p:nvSpPr>
            <p:cNvPr id="134" name="Rectangle 34"/>
            <p:cNvSpPr/>
            <p:nvPr/>
          </p:nvSpPr>
          <p:spPr>
            <a:xfrm>
              <a:off x="1260000" y="3218040"/>
              <a:ext cx="57564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5"/>
            <p:cNvSpPr/>
            <p:nvPr/>
          </p:nvSpPr>
          <p:spPr>
            <a:xfrm>
              <a:off x="1082520" y="3287880"/>
              <a:ext cx="100332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示运算定律及计算公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9640" y="3224160"/>
            <a:ext cx="729000" cy="1727280"/>
            <a:chOff x="269640" y="3224160"/>
            <a:chExt cx="729000" cy="1727280"/>
          </a:xfrm>
        </p:grpSpPr>
        <p:sp>
          <p:nvSpPr>
            <p:cNvPr id="137" name="Rectangle 37"/>
            <p:cNvSpPr/>
            <p:nvPr/>
          </p:nvSpPr>
          <p:spPr>
            <a:xfrm>
              <a:off x="309600" y="3224160"/>
              <a:ext cx="576360" cy="172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8"/>
            <p:cNvSpPr/>
            <p:nvPr/>
          </p:nvSpPr>
          <p:spPr>
            <a:xfrm>
              <a:off x="269640" y="3294360"/>
              <a:ext cx="72900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示数量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39"/>
          <p:cNvSpPr/>
          <p:nvPr/>
        </p:nvSpPr>
        <p:spPr>
          <a:xfrm rot="16200000">
            <a:off x="1438200" y="1952640"/>
            <a:ext cx="216000" cy="216216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62160"/>
              <a:gd name="textAreaBottom" fmla="*/ 210600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24680" y="3178080"/>
            <a:ext cx="729000" cy="1728720"/>
            <a:chOff x="6124680" y="3178080"/>
            <a:chExt cx="729000" cy="1728720"/>
          </a:xfrm>
        </p:grpSpPr>
        <p:sp>
          <p:nvSpPr>
            <p:cNvPr id="141" name="Rectangle 41"/>
            <p:cNvSpPr/>
            <p:nvPr/>
          </p:nvSpPr>
          <p:spPr>
            <a:xfrm>
              <a:off x="6165720" y="3178080"/>
              <a:ext cx="57492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2"/>
            <p:cNvSpPr/>
            <p:nvPr/>
          </p:nvSpPr>
          <p:spPr>
            <a:xfrm>
              <a:off x="6124680" y="3248280"/>
              <a:ext cx="729000" cy="16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列简单的方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133400" y="3178080"/>
            <a:ext cx="729000" cy="1728720"/>
            <a:chOff x="7133400" y="3178080"/>
            <a:chExt cx="729000" cy="1728720"/>
          </a:xfrm>
        </p:grpSpPr>
        <p:sp>
          <p:nvSpPr>
            <p:cNvPr id="144" name="Rectangle 44"/>
            <p:cNvSpPr/>
            <p:nvPr/>
          </p:nvSpPr>
          <p:spPr>
            <a:xfrm>
              <a:off x="7174080" y="3178080"/>
              <a:ext cx="57708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5"/>
            <p:cNvSpPr/>
            <p:nvPr/>
          </p:nvSpPr>
          <p:spPr>
            <a:xfrm>
              <a:off x="7133400" y="3247920"/>
              <a:ext cx="7290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列稍复杂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AutoShape 29"/>
          <p:cNvSpPr/>
          <p:nvPr/>
        </p:nvSpPr>
        <p:spPr>
          <a:xfrm rot="16200000">
            <a:off x="6850080" y="2463120"/>
            <a:ext cx="215640" cy="1152720"/>
          </a:xfrm>
          <a:custGeom>
            <a:avLst/>
            <a:gdLst>
              <a:gd name="textAreaLeft" fmla="*/ 0 w 215640"/>
              <a:gd name="textAreaRight" fmla="*/ 77760 w 215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回顾梳理 构建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集体交流 拾遗补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1917720"/>
            <a:ext cx="230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00000" y="321300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省略乘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字写在字母前面，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省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用等式的性质解方程时，方程两边要同加同减同乘同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除以相同的数，乘上和除以的数不能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方程后别忘了检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从题目中的关键句中找准等量关系，再列出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00000" y="249228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谁来说说这些知识点中有哪些容易出错或应该注意的地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用字母表示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84360" y="237060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出要求：认真审题，独立解决，看谁完成的又对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11080" y="2938320"/>
            <a:ext cx="76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教师行间巡视，记录学生的错误点及学生名单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3"/>
          <p:cNvSpPr/>
          <p:nvPr/>
        </p:nvSpPr>
        <p:spPr>
          <a:xfrm>
            <a:off x="825480" y="525600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照这样摆下去，当摆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小三角形时，需要 （       ）根火柴棒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摆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小三角形时，需要（        ）根火柴棒，当摆出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小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角形时，需要（            ）根火柴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746280" y="408816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食堂买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煤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已烧了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还剩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平均每天烧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。当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平均每天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       ）千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757080" y="3245760"/>
            <a:ext cx="78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学校买来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足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每个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又买来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排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每个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共用去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        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47720" y="2722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用字母表示乘法分配律（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08000" y="196632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练习：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一个正方形的边长是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厘米，那么它的周长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厘米，面积是（        ）平方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基础练习 排查漏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用字母表示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27920" y="193104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767040" y="2319480"/>
            <a:ext cx="56988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 baseline="44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492800" y="27223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647800" y="36018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619280" y="438840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1998720" y="47664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781680" y="550908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067360" y="587592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203640" y="6245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1320" y="5143320"/>
            <a:ext cx="1971360" cy="322200"/>
            <a:chOff x="2281320" y="5143320"/>
            <a:chExt cx="1971360" cy="322200"/>
          </a:xfrm>
        </p:grpSpPr>
        <p:grpSp>
          <p:nvGrpSpPr>
            <p:cNvPr id="175" name=""/>
            <p:cNvGrpSpPr/>
            <p:nvPr/>
          </p:nvGrpSpPr>
          <p:grpSpPr>
            <a:xfrm>
              <a:off x="3093840" y="5167440"/>
              <a:ext cx="161280" cy="263160"/>
              <a:chOff x="3093840" y="5167440"/>
              <a:chExt cx="161280" cy="263160"/>
            </a:xfrm>
          </p:grpSpPr>
          <p:sp>
            <p:nvSpPr>
              <p:cNvPr id="176" name="直接连接符 597012"/>
              <p:cNvSpPr/>
              <p:nvPr/>
            </p:nvSpPr>
            <p:spPr>
              <a:xfrm>
                <a:off x="3110760" y="5180400"/>
                <a:ext cx="144360" cy="25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597013"/>
              <p:cNvSpPr/>
              <p:nvPr/>
            </p:nvSpPr>
            <p:spPr>
              <a:xfrm>
                <a:off x="3093840" y="5167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930400" y="5165280"/>
              <a:ext cx="165960" cy="271440"/>
              <a:chOff x="2930400" y="5165280"/>
              <a:chExt cx="165960" cy="271440"/>
            </a:xfrm>
          </p:grpSpPr>
          <p:sp>
            <p:nvSpPr>
              <p:cNvPr id="179" name="直接连接符 597015"/>
              <p:cNvSpPr/>
              <p:nvPr/>
            </p:nvSpPr>
            <p:spPr>
              <a:xfrm flipV="1">
                <a:off x="2952000" y="5165280"/>
                <a:ext cx="144360" cy="25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597016"/>
              <p:cNvSpPr/>
              <p:nvPr/>
            </p:nvSpPr>
            <p:spPr>
              <a:xfrm flipH="1" flipV="1" rot="3600000">
                <a:off x="2936520" y="5393880"/>
                <a:ext cx="3636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946240" y="5416200"/>
              <a:ext cx="308520" cy="49320"/>
              <a:chOff x="2946240" y="5416200"/>
              <a:chExt cx="308520" cy="49320"/>
            </a:xfrm>
          </p:grpSpPr>
          <p:sp>
            <p:nvSpPr>
              <p:cNvPr id="182" name="直接连接符 597018"/>
              <p:cNvSpPr/>
              <p:nvPr/>
            </p:nvSpPr>
            <p:spPr>
              <a:xfrm flipH="1">
                <a:off x="2946240" y="5439600"/>
                <a:ext cx="2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597019"/>
              <p:cNvSpPr/>
              <p:nvPr/>
            </p:nvSpPr>
            <p:spPr>
              <a:xfrm flipV="1" rot="14400000">
                <a:off x="3211920" y="5422320"/>
                <a:ext cx="36000" cy="3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128760" y="5152680"/>
              <a:ext cx="308520" cy="49320"/>
              <a:chOff x="3128760" y="5152680"/>
              <a:chExt cx="308520" cy="49320"/>
            </a:xfrm>
          </p:grpSpPr>
          <p:sp>
            <p:nvSpPr>
              <p:cNvPr id="185" name="直接连接符 597021"/>
              <p:cNvSpPr/>
              <p:nvPr/>
            </p:nvSpPr>
            <p:spPr>
              <a:xfrm flipH="1">
                <a:off x="3128760" y="5176080"/>
                <a:ext cx="2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597022"/>
              <p:cNvSpPr/>
              <p:nvPr/>
            </p:nvSpPr>
            <p:spPr>
              <a:xfrm flipV="1" rot="14400000">
                <a:off x="3394440" y="5158800"/>
                <a:ext cx="36000" cy="3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44680" y="5185800"/>
              <a:ext cx="165960" cy="271440"/>
              <a:chOff x="3244680" y="5185800"/>
              <a:chExt cx="165960" cy="271440"/>
            </a:xfrm>
          </p:grpSpPr>
          <p:sp>
            <p:nvSpPr>
              <p:cNvPr id="188" name="直接连接符 597024"/>
              <p:cNvSpPr/>
              <p:nvPr/>
            </p:nvSpPr>
            <p:spPr>
              <a:xfrm flipV="1">
                <a:off x="3266280" y="5185800"/>
                <a:ext cx="144360" cy="25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597025"/>
              <p:cNvSpPr/>
              <p:nvPr/>
            </p:nvSpPr>
            <p:spPr>
              <a:xfrm flipH="1" flipV="1" rot="3600000">
                <a:off x="3250800" y="5414400"/>
                <a:ext cx="3636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81320" y="5143320"/>
              <a:ext cx="1971360" cy="322200"/>
              <a:chOff x="2281320" y="5143320"/>
              <a:chExt cx="1971360" cy="3222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281320" y="5164920"/>
                <a:ext cx="324720" cy="300600"/>
                <a:chOff x="2281320" y="5164920"/>
                <a:chExt cx="324720" cy="30060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2444760" y="5167440"/>
                  <a:ext cx="161280" cy="263160"/>
                  <a:chOff x="2444760" y="5167440"/>
                  <a:chExt cx="161280" cy="263160"/>
                </a:xfrm>
              </p:grpSpPr>
              <p:sp>
                <p:nvSpPr>
                  <p:cNvPr id="193" name="直接连接符 597029"/>
                  <p:cNvSpPr/>
                  <p:nvPr/>
                </p:nvSpPr>
                <p:spPr>
                  <a:xfrm>
                    <a:off x="2461680" y="5180400"/>
                    <a:ext cx="144360" cy="25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椭圆 597030"/>
                  <p:cNvSpPr/>
                  <p:nvPr/>
                </p:nvSpPr>
                <p:spPr>
                  <a:xfrm>
                    <a:off x="2444760" y="5167440"/>
                    <a:ext cx="3636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2281320" y="5164920"/>
                  <a:ext cx="165600" cy="271440"/>
                  <a:chOff x="2281320" y="5164920"/>
                  <a:chExt cx="165600" cy="271440"/>
                </a:xfrm>
              </p:grpSpPr>
              <p:sp>
                <p:nvSpPr>
                  <p:cNvPr id="196" name="直接连接符 597032"/>
                  <p:cNvSpPr/>
                  <p:nvPr/>
                </p:nvSpPr>
                <p:spPr>
                  <a:xfrm flipV="1">
                    <a:off x="2302560" y="5164920"/>
                    <a:ext cx="144360" cy="25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椭圆 597033"/>
                  <p:cNvSpPr/>
                  <p:nvPr/>
                </p:nvSpPr>
                <p:spPr>
                  <a:xfrm flipH="1" flipV="1" rot="3600000">
                    <a:off x="2287800" y="5392440"/>
                    <a:ext cx="36360" cy="36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2296440" y="5416200"/>
                  <a:ext cx="308520" cy="49320"/>
                  <a:chOff x="2296440" y="5416200"/>
                  <a:chExt cx="308520" cy="49320"/>
                </a:xfrm>
              </p:grpSpPr>
              <p:sp>
                <p:nvSpPr>
                  <p:cNvPr id="199" name="直接连接符 597035"/>
                  <p:cNvSpPr/>
                  <p:nvPr/>
                </p:nvSpPr>
                <p:spPr>
                  <a:xfrm flipH="1">
                    <a:off x="2296440" y="5439600"/>
                    <a:ext cx="289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椭圆 597036"/>
                  <p:cNvSpPr/>
                  <p:nvPr/>
                </p:nvSpPr>
                <p:spPr>
                  <a:xfrm flipV="1" rot="14400000">
                    <a:off x="2562120" y="5421960"/>
                    <a:ext cx="3600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3592440" y="5143320"/>
                <a:ext cx="660240" cy="322200"/>
                <a:chOff x="3592440" y="5143320"/>
                <a:chExt cx="660240" cy="3222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3592440" y="5143320"/>
                  <a:ext cx="508320" cy="322200"/>
                  <a:chOff x="3592440" y="5143320"/>
                  <a:chExt cx="508320" cy="32220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3592440" y="5164920"/>
                    <a:ext cx="324720" cy="300600"/>
                    <a:chOff x="3592440" y="5164920"/>
                    <a:chExt cx="324720" cy="300600"/>
                  </a:xfrm>
                </p:grpSpPr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3755880" y="5167440"/>
                      <a:ext cx="161280" cy="263160"/>
                      <a:chOff x="3755880" y="5167440"/>
                      <a:chExt cx="161280" cy="263160"/>
                    </a:xfrm>
                  </p:grpSpPr>
                  <p:sp>
                    <p:nvSpPr>
                      <p:cNvPr id="205" name="直接连接符 597041"/>
                      <p:cNvSpPr/>
                      <p:nvPr/>
                    </p:nvSpPr>
                    <p:spPr>
                      <a:xfrm>
                        <a:off x="3772800" y="5180400"/>
                        <a:ext cx="144360" cy="250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椭圆 597042"/>
                      <p:cNvSpPr/>
                      <p:nvPr/>
                    </p:nvSpPr>
                    <p:spPr>
                      <a:xfrm>
                        <a:off x="3755880" y="5167440"/>
                        <a:ext cx="36360" cy="3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3592440" y="5164920"/>
                      <a:ext cx="165600" cy="271440"/>
                      <a:chOff x="3592440" y="5164920"/>
                      <a:chExt cx="165600" cy="271440"/>
                    </a:xfrm>
                  </p:grpSpPr>
                  <p:sp>
                    <p:nvSpPr>
                      <p:cNvPr id="208" name="直接连接符 597044"/>
                      <p:cNvSpPr/>
                      <p:nvPr/>
                    </p:nvSpPr>
                    <p:spPr>
                      <a:xfrm flipV="1">
                        <a:off x="3613680" y="5164920"/>
                        <a:ext cx="144360" cy="250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" name="椭圆 597045"/>
                      <p:cNvSpPr/>
                      <p:nvPr/>
                    </p:nvSpPr>
                    <p:spPr>
                      <a:xfrm flipH="1" flipV="1" rot="3600000">
                        <a:off x="3598920" y="5392440"/>
                        <a:ext cx="36360" cy="36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3607560" y="5416200"/>
                      <a:ext cx="308520" cy="49320"/>
                      <a:chOff x="3607560" y="5416200"/>
                      <a:chExt cx="308520" cy="49320"/>
                    </a:xfrm>
                  </p:grpSpPr>
                  <p:sp>
                    <p:nvSpPr>
                      <p:cNvPr id="211" name="直接连接符 597047"/>
                      <p:cNvSpPr/>
                      <p:nvPr/>
                    </p:nvSpPr>
                    <p:spPr>
                      <a:xfrm flipH="1">
                        <a:off x="3607560" y="5439600"/>
                        <a:ext cx="2890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" name="椭圆 597048"/>
                      <p:cNvSpPr/>
                      <p:nvPr/>
                    </p:nvSpPr>
                    <p:spPr>
                      <a:xfrm flipV="1" rot="14400000">
                        <a:off x="3873240" y="5421960"/>
                        <a:ext cx="36000" cy="36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3792240" y="5143320"/>
                    <a:ext cx="308520" cy="49320"/>
                    <a:chOff x="3792240" y="5143320"/>
                    <a:chExt cx="308520" cy="49320"/>
                  </a:xfrm>
                </p:grpSpPr>
                <p:sp>
                  <p:nvSpPr>
                    <p:cNvPr id="214" name="直接连接符 597050"/>
                    <p:cNvSpPr/>
                    <p:nvPr/>
                  </p:nvSpPr>
                  <p:spPr>
                    <a:xfrm flipH="1">
                      <a:off x="3792240" y="5166720"/>
                      <a:ext cx="288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椭圆 597051"/>
                    <p:cNvSpPr/>
                    <p:nvPr/>
                  </p:nvSpPr>
                  <p:spPr>
                    <a:xfrm flipV="1" rot="14400000">
                      <a:off x="4057920" y="5149440"/>
                      <a:ext cx="36000" cy="36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908160" y="5176440"/>
                    <a:ext cx="165960" cy="271440"/>
                    <a:chOff x="3908160" y="5176440"/>
                    <a:chExt cx="165960" cy="271440"/>
                  </a:xfrm>
                </p:grpSpPr>
                <p:sp>
                  <p:nvSpPr>
                    <p:cNvPr id="217" name="直接连接符 597053"/>
                    <p:cNvSpPr/>
                    <p:nvPr/>
                  </p:nvSpPr>
                  <p:spPr>
                    <a:xfrm flipV="1">
                      <a:off x="3929760" y="5176440"/>
                      <a:ext cx="144360" cy="2502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椭圆 597054"/>
                    <p:cNvSpPr/>
                    <p:nvPr/>
                  </p:nvSpPr>
                  <p:spPr>
                    <a:xfrm flipH="1" flipV="1" rot="3600000">
                      <a:off x="3914280" y="5405040"/>
                      <a:ext cx="36360" cy="35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3944160" y="5403600"/>
                  <a:ext cx="308520" cy="49320"/>
                  <a:chOff x="3944160" y="5403600"/>
                  <a:chExt cx="308520" cy="49320"/>
                </a:xfrm>
              </p:grpSpPr>
              <p:sp>
                <p:nvSpPr>
                  <p:cNvPr id="220" name="直接连接符 597056"/>
                  <p:cNvSpPr/>
                  <p:nvPr/>
                </p:nvSpPr>
                <p:spPr>
                  <a:xfrm flipH="1">
                    <a:off x="3944160" y="5427000"/>
                    <a:ext cx="289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椭圆 597057"/>
                  <p:cNvSpPr/>
                  <p:nvPr/>
                </p:nvSpPr>
                <p:spPr>
                  <a:xfrm flipV="1" rot="14400000">
                    <a:off x="4209840" y="5409360"/>
                    <a:ext cx="3600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4089240" y="5167440"/>
                  <a:ext cx="161280" cy="263160"/>
                  <a:chOff x="4089240" y="5167440"/>
                  <a:chExt cx="161280" cy="263160"/>
                </a:xfrm>
              </p:grpSpPr>
              <p:sp>
                <p:nvSpPr>
                  <p:cNvPr id="223" name="直接连接符 597059"/>
                  <p:cNvSpPr/>
                  <p:nvPr/>
                </p:nvSpPr>
                <p:spPr>
                  <a:xfrm>
                    <a:off x="4106160" y="5180400"/>
                    <a:ext cx="144360" cy="25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椭圆 597060"/>
                  <p:cNvSpPr/>
                  <p:nvPr/>
                </p:nvSpPr>
                <p:spPr>
                  <a:xfrm>
                    <a:off x="4089240" y="5167440"/>
                    <a:ext cx="3636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23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